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23.wmf" ContentType="image/x-wmf"/>
  <Override PartName="/ppt/media/image6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7.wmf" ContentType="image/x-wmf"/>
  <Override PartName="/ppt/media/image16.jpeg" ContentType="image/jpeg"/>
  <Override PartName="/ppt/media/image24.wmf" ContentType="image/x-wmf"/>
  <Override PartName="/ppt/media/image22.wmf" ContentType="image/x-wmf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26.wmf" ContentType="image/x-wmf"/>
  <Override PartName="/ppt/media/image15.jpeg" ContentType="image/jpeg"/>
  <Override PartName="/ppt/media/image14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B1F7-80AA-4D67-964B-1561CB73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9636-0C65-4C58-A324-C29308AB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A98D-A5B0-4A74-8D64-77AE5B80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3508-E7A9-4BE8-8DE2-725C3998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52D8-0577-435E-AB59-A424DAA9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75A-C055-4C86-8BB7-51F88586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E72-39C0-4FE5-B79F-2AFC13BB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779D-3DBB-4C38-A73D-C2507336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14B-2D57-4404-B93D-DBC10B05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AA7-07E2-4143-8B31-EAE2CF5A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C48E-2B06-4DB4-99CC-25F17560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74BC-2517-4A4A-8347-ED94774B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D8C7-07B6-4ED9-824D-C4E03DB7C6C5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www.gsmarena.com/sagem_vs1-pictures-1181.php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Status Project JERR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59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imply Jerry UE Workshop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Vodafone – BenQ Mobile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VF-Group, Düsseldorf Tower 21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/ WK, 22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1624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1192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0976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22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84600" y="2333520"/>
            <a:ext cx="422280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84600" y="2352600"/>
            <a:ext cx="422280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048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6676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725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2492280"/>
            <a:ext cx="4608720" cy="42498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115920"/>
            <a:ext cx="4608720" cy="165744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1484280"/>
            <a:ext cx="4608720" cy="12240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Kick-off workshop of the complete Jerry Project Team from Feb 13th to 17th in Beijing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project team is established with clear responsibilit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feasibility of all requested features is analyz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 detailed project plan is establish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ll software workpackages are assign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Agile software development approach is agreed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(to be communicated with VF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125360"/>
            <a:ext cx="83059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tack-up and PCB floorplan in line with new Jerry-ID recently being signed-off by VF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... with minor adaptations on ID to improve erg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887560"/>
            <a:ext cx="83059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First working PCB’s scheduled for Mid 3/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3839760"/>
            <a:ext cx="830592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Fine tuning of mechanical design is running. Design freeze is scheduled for 28 February. 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Release of 100% data for hardtools on 25 April. 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335240"/>
            <a:ext cx="830592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s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osition for lanyard 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eypad back lights – blue vs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-touch finish on battery cover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=&gt;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potential color mismatch with middl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jewel-sticker on soft-touch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hrome plating of groove in function keypad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47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177560"/>
            <a:ext cx="83059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Successfully changed from EGRadio / Apoxi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to SGlite / Native platfom in Jan ’06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resolving resources conflicts with Goldfinch (VF listed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and securing time-to-market for Jerr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900000"/>
            <a:ext cx="83059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Agile software development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Each software feature is separated into </a:t>
            </a:r>
            <a:r>
              <a:rPr b="0" i="1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handy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work packages of at most 4 weeks dur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/ work packages are collected in a list of prioritized ”backlog” items. This list is owned by the product mana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whole software is developed in several successive steps (”sprints”), in each of which a defined and agreed set of backlog items from the top of the list is handled. This approach is ”test driven” (TDD) and will provide a testable intermediate phone software at the end of each spr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intermediate software result is checked and released by the custom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03360" y="1320840"/>
            <a:ext cx="5713560" cy="4867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-74520" y="825480"/>
            <a:ext cx="58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clustered and analy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>
            <a:off x="-394560" y="825480"/>
            <a:ext cx="9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 separated into workpackages of max 4 wks leng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7720" y="1521000"/>
            <a:ext cx="7898040" cy="39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3" name=""/>
          <p:cNvSpPr/>
          <p:nvPr/>
        </p:nvSpPr>
        <p:spPr>
          <a:xfrm>
            <a:off x="4205880" y="17463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=      Design Free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30440" y="295416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4400" y="325116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07760" y="460368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75760" y="557208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hipment to Opcos by: 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3 O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03000" y="7714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Jerry – High Level Features (ID, Softwar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ject team setup   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tatus (ID, HW, S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gile SW development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657600"/>
            <a:ext cx="83059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CD compliance – Smart Simply 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ext Input Review List -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410080"/>
            <a:ext cx="830592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98440" y="9144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. Ba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94440" y="21337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. Kleb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8520" y="380988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. L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948080" y="54388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43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49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8" name=""/>
          <p:cNvSpPr/>
          <p:nvPr/>
        </p:nvSpPr>
        <p:spPr>
          <a:xfrm>
            <a:off x="3875760" y="133344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Agreed Product Backlog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30440" y="404964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3240" y="512928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07760" y="579744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63400" y="7714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 Milestones (Ag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18560" y="1752480"/>
            <a:ext cx="56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1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31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1240" y="2068560"/>
            <a:ext cx="38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7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14240" y="2570040"/>
            <a:ext cx="57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2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4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28640" y="288612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1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6840" y="335124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3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1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1240" y="366696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8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34760" y="446580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4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91960" y="4781520"/>
            <a:ext cx="45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25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34760" y="546732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3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28 Ju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9556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488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7512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0800" y="5891040"/>
            <a:ext cx="839880" cy="177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35600" y="5888160"/>
            <a:ext cx="1362240" cy="18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10320" y="532764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Market Positio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00080"/>
            <a:ext cx="830592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Jerry is targeting the </a:t>
            </a:r>
            <a:r>
              <a:rPr b="0" lang="en-US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 program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1811160"/>
            <a:ext cx="3162240" cy="54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2520" y="284328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1 : Sagem VS1 and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Vofafone Simply Sagem VS3"/>
          <p:cNvPicPr/>
          <p:nvPr/>
        </p:nvPicPr>
        <p:blipFill>
          <a:blip r:embed="rId2"/>
          <a:stretch/>
        </p:blipFill>
        <p:spPr>
          <a:xfrm>
            <a:off x="6689880" y="3760920"/>
            <a:ext cx="415800" cy="1203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Sagem VS1&#10;MORE PICTUR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92960" y="2449440"/>
            <a:ext cx="822240" cy="1100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Sagem VS2"/>
          <p:cNvPicPr/>
          <p:nvPr/>
        </p:nvPicPr>
        <p:blipFill>
          <a:blip r:embed="rId5"/>
          <a:stretch/>
        </p:blipFill>
        <p:spPr>
          <a:xfrm>
            <a:off x="7497720" y="2403360"/>
            <a:ext cx="514440" cy="120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669000" y="5175360"/>
            <a:ext cx="49212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2520" y="4113360"/>
            <a:ext cx="87789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2: Sagem V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520" y="527544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3: BenQ Jerry (VS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ppealing Desig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76240" y="1397160"/>
            <a:ext cx="7391520" cy="4794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360" y="80964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esign Status 20 Feb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11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by dedicated hardkey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Special Buttons"/>
          <p:cNvPicPr/>
          <p:nvPr/>
        </p:nvPicPr>
        <p:blipFill>
          <a:blip r:embed="rId1"/>
          <a:stretch/>
        </p:blipFill>
        <p:spPr>
          <a:xfrm>
            <a:off x="760320" y="1195560"/>
            <a:ext cx="203220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096920" y="1546200"/>
          <a:ext cx="5075280" cy="3268800"/>
        </p:xfrm>
        <a:graphic>
          <a:graphicData uri="http://schemas.openxmlformats.org/drawingml/2006/table">
            <a:tbl>
              <a:tblPr/>
              <a:tblGrid>
                <a:gridCol w="1052640"/>
                <a:gridCol w="4022640"/>
              </a:tblGrid>
              <a:tr h="326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Idle Screen / Event Space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Contacts Space”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Menu Space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0" name=""/>
          <p:cNvGrpSpPr/>
          <p:nvPr/>
        </p:nvGrpSpPr>
        <p:grpSpPr>
          <a:xfrm>
            <a:off x="723960" y="2154240"/>
            <a:ext cx="1561680" cy="2239920"/>
            <a:chOff x="723960" y="2154240"/>
            <a:chExt cx="1561680" cy="223992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52400" y="2154240"/>
              <a:ext cx="96516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23960" y="3652920"/>
              <a:ext cx="96048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995400" y="2538360"/>
              <a:ext cx="12492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221840" y="3328920"/>
              <a:ext cx="10638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1450800" y="3749760"/>
              <a:ext cx="72720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607000" y="3967200"/>
            <a:ext cx="1996920" cy="2133360"/>
            <a:chOff x="5607000" y="3967200"/>
            <a:chExt cx="1996920" cy="213336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5619600" y="3967200"/>
              <a:ext cx="5716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337080" y="4556160"/>
              <a:ext cx="1266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Volume hi/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07000" y="4402080"/>
              <a:ext cx="652320" cy="55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95280" y="5083200"/>
            <a:ext cx="2844720" cy="552600"/>
            <a:chOff x="1295280" y="5083200"/>
            <a:chExt cx="2844720" cy="552600"/>
          </a:xfrm>
        </p:grpSpPr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>
              <a:off x="1295280" y="5083200"/>
              <a:ext cx="133848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720160" y="5214960"/>
              <a:ext cx="141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ower on/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514840" y="1339920"/>
            <a:ext cx="2815920" cy="2247480"/>
            <a:chOff x="5514840" y="1339920"/>
            <a:chExt cx="2815920" cy="2247480"/>
          </a:xfrm>
        </p:grpSpPr>
        <p:sp>
          <p:nvSpPr>
            <p:cNvPr id="84" name=""/>
            <p:cNvSpPr/>
            <p:nvPr/>
          </p:nvSpPr>
          <p:spPr>
            <a:xfrm>
              <a:off x="6182640" y="3151080"/>
              <a:ext cx="144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ock / Un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514840" y="1339920"/>
              <a:ext cx="2815920" cy="2195280"/>
              <a:chOff x="5514840" y="1339920"/>
              <a:chExt cx="2815920" cy="2195280"/>
            </a:xfrm>
          </p:grpSpPr>
          <p:pic>
            <p:nvPicPr>
              <p:cNvPr id="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1339920"/>
                <a:ext cx="644400" cy="21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127560" y="1993680"/>
                <a:ext cx="22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Ringer Profile Set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514840" y="1839600"/>
                <a:ext cx="652320" cy="5569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5551200" y="3030480"/>
              <a:ext cx="652320" cy="556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User Interface"/>
          <p:cNvPicPr/>
          <p:nvPr/>
        </p:nvPicPr>
        <p:blipFill>
          <a:blip r:embed="rId1"/>
          <a:stretch/>
        </p:blipFill>
        <p:spPr>
          <a:xfrm>
            <a:off x="603360" y="1206360"/>
            <a:ext cx="2095560" cy="444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Vodafone Simply Sagem VS2 - displays your number"/>
          <p:cNvPicPr/>
          <p:nvPr/>
        </p:nvPicPr>
        <p:blipFill>
          <a:blip r:embed="rId2"/>
          <a:srcRect l="40579" t="17765" r="18954" b="48320"/>
          <a:stretch/>
        </p:blipFill>
        <p:spPr>
          <a:xfrm>
            <a:off x="593640" y="2158920"/>
            <a:ext cx="1144800" cy="1416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CALL"/>
          <p:cNvPicPr/>
          <p:nvPr/>
        </p:nvPicPr>
        <p:blipFill>
          <a:blip r:embed="rId3"/>
          <a:stretch/>
        </p:blipFill>
        <p:spPr>
          <a:xfrm>
            <a:off x="20574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dd contact"/>
          <p:cNvPicPr/>
          <p:nvPr/>
        </p:nvPicPr>
        <p:blipFill>
          <a:blip r:embed="rId4"/>
          <a:stretch/>
        </p:blipFill>
        <p:spPr>
          <a:xfrm>
            <a:off x="48006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Log"/>
          <p:cNvPicPr/>
          <p:nvPr/>
        </p:nvPicPr>
        <p:blipFill>
          <a:blip r:embed="rId5"/>
          <a:stretch/>
        </p:blipFill>
        <p:spPr>
          <a:xfrm>
            <a:off x="740736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dd reminder"/>
          <p:cNvPicPr/>
          <p:nvPr/>
        </p:nvPicPr>
        <p:blipFill>
          <a:blip r:embed="rId6"/>
          <a:stretch/>
        </p:blipFill>
        <p:spPr>
          <a:xfrm>
            <a:off x="6126120" y="2158920"/>
            <a:ext cx="1171440" cy="141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Save numbers"/>
          <p:cNvPicPr/>
          <p:nvPr/>
        </p:nvPicPr>
        <p:blipFill>
          <a:blip r:embed="rId7"/>
          <a:stretch/>
        </p:blipFill>
        <p:spPr>
          <a:xfrm>
            <a:off x="3475080" y="215892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692360" y="4456080"/>
            <a:ext cx="3519360" cy="1575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user interface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816120"/>
            <a:ext cx="1874880" cy="438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Sar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 SW Yang Y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06560" y="5075280"/>
            <a:ext cx="2475000" cy="5540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88600" y="148284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: 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0440" y="1463760"/>
            <a:ext cx="224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alborg:  HW 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3520" y="1268280"/>
            <a:ext cx="1829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 / Shangha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8040" y="603360"/>
            <a:ext cx="8229600" cy="60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Wolfgang Klebsch</cp:lastModifiedBy>
  <dcterms:modified xsi:type="dcterms:W3CDTF">2006-02-22T11:27:53Z</dcterms:modified>
  <cp:revision>173</cp:revision>
  <dc:subject/>
  <dc:title>PowerPoint</dc:title>
</cp:coreProperties>
</file>